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18E-2922-4A1A-8C4F-DA17C0BC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9753-D24C-4630-91DE-D7434134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1750-ECA4-41AB-8A11-FE531350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C77-1B76-438A-8B98-6DE43298E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B33A-9A8A-4186-B5EB-C5EA7EF4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7AC5-E059-4F8A-B33A-D69A30CF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A591-B8B6-4397-A5E1-F2B979FB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572B-654E-4377-B273-4EC49872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0975-2F20-4E8F-9EC1-62D3F9C2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B150-0DFC-4A63-944B-FF4A8E0C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2A25-1B3A-46F0-BD32-9EFF1256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21F3-80E9-43D1-A7AF-73E78D18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4021-41DE-4FD4-A391-4B49340C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FE62-7D2B-48E4-914C-8172FEA0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A771-5FC4-4345-BF84-497672FE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E270-7AFB-49D2-9ABD-2B7CDDF6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8849-AFA7-4449-9F76-F0528B6A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D0D-3152-4E4D-90B7-259E9B2C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82CF-A4A0-4BB4-9BE4-029B0D24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70C3-E143-432E-B74E-78323E86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BE4-C910-485C-B91D-726E05BA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7F73-F4BD-4554-A535-D24C9B7D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D5B6-57ED-4592-89E1-B6B34B79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E84A-0A06-4BEC-8DD0-10322228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0E57-7184-45EC-9968-83FEBBB408B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D4CE-535A-43FF-B9F4-1FE5C54286B4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Dimensions of the Olympic stadium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1547640" y="3068640"/>
            <a:ext cx="2592720" cy="25923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Oval 6"/>
          <p:cNvSpPr/>
          <p:nvPr/>
        </p:nvSpPr>
        <p:spPr>
          <a:xfrm>
            <a:off x="6084720" y="3068640"/>
            <a:ext cx="2592720" cy="25923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2916360" y="3068640"/>
            <a:ext cx="4392360" cy="259236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3419640" y="2708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90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3059280" y="4076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70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What are the calculations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We halved 70m and 90m which will give every person half a square meter when they are added to the original number and then multiplied them together to get 14,1754 which covers the 12,000 athle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90/2 +9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70/2+7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135*105=14,17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35*    2= 354.436154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5" descr="pi"/>
          <p:cNvPicPr/>
          <p:nvPr/>
        </p:nvPicPr>
        <p:blipFill>
          <a:blip r:embed="rId6"/>
          <a:stretch/>
        </p:blipFill>
        <p:spPr>
          <a:xfrm>
            <a:off x="1763640" y="558972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The whole capacity of the stadium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If you divide 70 by 2 you will get 35 then if you multiply that by    2 and4 you will get the capacity of the two semicircles on the ends then you add the two togethe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5" descr="pi"/>
          <p:cNvPicPr/>
          <p:nvPr/>
        </p:nvPicPr>
        <p:blipFill>
          <a:blip r:embed="rId2"/>
          <a:stretch/>
        </p:blipFill>
        <p:spPr>
          <a:xfrm>
            <a:off x="6588000" y="2205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9:40:25Z</dcterms:created>
  <dc:creator>HouseC</dc:creator>
  <dc:description/>
  <dc:language>en-US</dc:language>
  <cp:lastModifiedBy> </cp:lastModifiedBy>
  <dcterms:modified xsi:type="dcterms:W3CDTF">2010-06-12T11:53:37Z</dcterms:modified>
  <cp:revision>2</cp:revision>
  <dc:subject/>
  <dc:title>Dimensions of the Olympic stadium </dc:title>
</cp:coreProperties>
</file>